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DF7-42B1-45CF-8ADC-1ECF366E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A21-C206-41D6-AD0B-73BA19CF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4633-EEC7-4567-AF9D-F4312B6F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7BA-D938-4384-9CEB-4041966C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05A-9DAF-4E37-8B78-142AAF3D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FF2-8120-45BC-900B-82C1A5BD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4D8-1D83-4B44-876C-A251B972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1BE-561B-425C-87B5-40B70B8B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44A-58B1-4BAA-938A-9985AF71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CFB-18EE-4B13-8B80-A84BA98F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BD8-CBB0-4CB6-821D-9B16DEC6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229-DC22-449E-A0C7-A98DE40B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A8001-6C06-4816-BF33-03F6CD8D0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3240" y="2014560"/>
            <a:ext cx="624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 Suivi régional des parcours VAE : pourquoi, com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4640" y="2987640"/>
            <a:ext cx="2821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s dispositif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3040" y="3851280"/>
            <a:ext cx="562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réer un espace régional de suivi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4160" y="4716360"/>
            <a:ext cx="1413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3280" y="3187800"/>
            <a:ext cx="90741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’export de votre fichier de données harmonisé et anony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enregistrement de votre fichier dans le serv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fusion de vos données avec celles enregistrées antérie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corporation de ces données dans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s données seront enregistrées sur le serveur. Elles resteront parfaitement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76720" y="2700360"/>
            <a:ext cx="504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</a:t>
            </a:r>
            <a:r>
              <a:rPr b="0" lang="fr-FR" sz="1400" spc="-1" strike="noStrike">
                <a:solidFill>
                  <a:srgbClr val="0000cc"/>
                </a:solidFill>
                <a:latin typeface="Arial"/>
              </a:rPr>
              <a:t>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41280" y="4194000"/>
            <a:ext cx="69678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s données ont été correctement exportées dans la base des parcours V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s pourrez les consulter d’ici 48h  en revenant vers le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« mes fichiers, mes statistiques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Mes fichiers, mes statis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76360" y="1835280"/>
          <a:ext cx="8208720" cy="174600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873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47640" y="4572000"/>
          <a:ext cx="6769080" cy="2419200"/>
        </p:xfrm>
        <a:graphic>
          <a:graphicData uri="http://schemas.openxmlformats.org/drawingml/2006/table">
            <a:tbl>
              <a:tblPr/>
              <a:tblGrid>
                <a:gridCol w="2808360"/>
                <a:gridCol w="201600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79124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052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4000" y="50878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0" y="53802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04000" y="565164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16600" y="593892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ableau de bord gestion / é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0360" y="1692360"/>
          <a:ext cx="9217080" cy="263844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008000"/>
                <a:gridCol w="187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JS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nts Conse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31640" y="5757840"/>
          <a:ext cx="6769440" cy="1444680"/>
        </p:xfrm>
        <a:graphic>
          <a:graphicData uri="http://schemas.openxmlformats.org/drawingml/2006/table">
            <a:tbl>
              <a:tblPr/>
              <a:tblGrid>
                <a:gridCol w="2808360"/>
                <a:gridCol w="201636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573440" y="231444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85240" y="23050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78640" y="60930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8000" y="6380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80080" y="664704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1080" y="235260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83160" y="26146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86280" y="26146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31640" y="4788000"/>
          <a:ext cx="6719760" cy="612720"/>
        </p:xfrm>
        <a:graphic>
          <a:graphicData uri="http://schemas.openxmlformats.org/drawingml/2006/table">
            <a:tbl>
              <a:tblPr/>
              <a:tblGrid>
                <a:gridCol w="2820960"/>
                <a:gridCol w="1008000"/>
                <a:gridCol w="1008000"/>
                <a:gridCol w="188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sion de la base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it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lécharger la 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 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3313080" y="51148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9440" y="51274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3440" y="40798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97840" y="4067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6280" y="4067280"/>
            <a:ext cx="863640" cy="21564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raitement fichier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1619280"/>
            <a:ext cx="907416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tificate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DAVA.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ier export d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25/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e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134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2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épôt de dossier ni date de recev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traitements spécifiques conformément aux rè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000" y="601200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2000" y="601200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00" y="6600960"/>
            <a:ext cx="508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u rapport et du fichier tra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Mise à jour de la base des parcours V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6360" y="1763640"/>
            <a:ext cx="9074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mpag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octo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a mise à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0720" y="298764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0720" y="298764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6200" y="480060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e la nouvelle version de l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160" y="3851280"/>
            <a:ext cx="491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s compléments d’enregist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Compléments</a:t>
            </a: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d‘enregist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63640"/>
            <a:ext cx="90741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tachement du fichier de données complémentair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paration du fichier d’export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réez le fichier d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registrement du fichier dans le serveur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enregist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itement des données avant fusion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trai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sion des données dans la base des parcours VA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fusion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960" y="1476360"/>
            <a:ext cx="468684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ées et résultats statis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Exportez vo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Mes fichiers, me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42120" y="1692360"/>
            <a:ext cx="323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uide d’utilisation du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7360" y="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51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Données non enregistrées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19120" y="3527280"/>
            <a:ext cx="7437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port des données, mode d’emplo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émarrer l’assistant d’exportation des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déma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Interface d‘export des données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3274920"/>
            <a:ext cx="7437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ttachez votre fichier de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9280" y="3780000"/>
            <a:ext cx="4619520" cy="300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3274920"/>
            <a:ext cx="90741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de données est correctement paramétré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ontin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a été traité pour le rendre confor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X colonnes, Y lignes, Z doublons complets ont été supprimé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continu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de données ne peut pas être trai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l n’est pas au format .csv ou tabulé : enregistrez votre fichier au bon format et recomme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3274920"/>
            <a:ext cx="90741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a préparation de votre fichier d’expo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us pourrez consulter le fichier traité et décider ou non de l’enregistrer sur le serveur (ex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squ’à cette étape, vos données ne sont pas enregistr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2000" y="4194000"/>
            <a:ext cx="49752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Harmonisation des champs.....normalisation des valeurs..............anonymisation....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01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1280" y="4194000"/>
            <a:ext cx="69678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a été correctement configu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lez vous contrôler vos données avant leur enregistre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Voi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lez vous exporter vos données vers le serveu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Exporte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118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059280"/>
            <a:ext cx="10080720" cy="303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21080" y="6372360"/>
            <a:ext cx="3126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Télécharger mes donné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Bruno</cp:lastModifiedBy>
  <dcterms:modified xsi:type="dcterms:W3CDTF">2010-09-08T09:38:17Z</dcterms:modified>
  <cp:revision>9</cp:revision>
  <dc:subject/>
  <dc:title>Diapositive 1</dc:title>
</cp:coreProperties>
</file>